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028-E284-43BF-AFFF-597F9725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CFC-B746-43FB-BAC5-F7C851C8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B43-799F-4BE1-A63F-E042D575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968-DD08-4533-BD1F-0198EB89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CFF-466B-4F94-9207-074B0B2C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21E-A993-4E0C-A1D0-6B34091C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A224-3E48-4926-91E5-D0A1FB4F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7D45-430E-495A-924C-EA50CE56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C310-9052-4CD3-AE98-3DEA08DD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277-7214-4567-ADCE-9F29901A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E4BC-F205-4BD9-B1E5-400CBA49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3B22-4948-4A84-B3A7-280BCE0D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6913-F655-4A49-A4FA-146F76F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01E2-483E-4FDB-8048-D046E035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FABF-7DD6-4EEB-9EF8-B997812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114C-DD6B-43B6-B559-421D1B2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42B8-0E33-42AC-9DCF-1CC64FA0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66BD-7382-4942-92E6-3E556AA5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68A0-2F44-42AB-88F6-BBD27222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A72E-6A79-4553-A044-FF491DF2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504-F00F-4958-8A4E-168E46B2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1BC6-028B-49EF-B5B9-1AF59DC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CBC5-CD95-4529-B94D-6F9B6D8B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580A-7DC5-430D-A796-B589D81F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6537-A900-4240-B53C-474C2B12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85FD4-D71E-4D0D-976D-152C5578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39B7-4B69-4913-979E-69BCF4D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AF5C-24CD-4ABD-821D-6926359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06B7-7F8E-4FA9-A77F-1DDACF28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C60C-D015-4EBE-B5B6-C98B83B3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A143-12A0-4099-A4C0-6767CAFB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9C2-49EF-4F76-AE8D-BBF764BE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F4EE-72DF-4780-8F22-8CC9F67E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B7A2-1C3A-4FB0-952F-81C24275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0830-D299-4AC1-8744-7F1BC83A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0F88-A927-48A9-B08F-DF6C695C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57E2-C660-41DD-9C10-8A89286B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73FD-6DAE-429F-9D19-0C25395A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2145-A3CC-4620-AD49-4C3FC142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D5E5B-2739-4B18-A361-8D33BCD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D27F-462D-4AA0-A29C-6B670A3D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8332-D44C-48E6-8E5F-FE4FBB14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8E6-A328-46A8-884E-7EE39EB6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55BF-1005-4A26-B1BD-DB0C0D20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8061-ECF0-49CD-9857-BCE8D075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D5A3D-A14C-4903-93C8-76CC1382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651-E8D0-43A0-9429-DFAE43D5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749-2900-4A88-B2DC-D0640BF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F37D551-98B6-4636-A81C-A10FB34652A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A7769E0-8672-4801-9D34-A564EAC0FFEB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1F738DD-04AC-40C1-A614-DD65610BB0A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C83DF22-3037-4685-8F9A-A590A92A4DA0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pisz sposób oceny oddechu poszkodowanego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 pomocą trzech zmysłów: wzroku (sprawdzamy,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czy unosi się klatka piersiowa), słuchu (sprawdzamy,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czy słyszymy szmery oddechowe) i dotyku (sprawdzamy, czy czujemy na policzku wydmuchiwane przez poszkodowanego powietrze)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